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8C2-9F36-4C8A-B5CD-4374C9E9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FCC-A38D-41BC-A9DF-F5028F36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B8B-285A-4C83-8C00-B096F4AA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458-4412-4ACA-B4BC-DDBC02C3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AA7-C8B0-43AD-A0E0-243242E0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F7E-8AEB-424C-AEF3-2E64023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24D-4A6E-48F9-A7F6-4050EF6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02A-4998-41C3-8853-4D33EE7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B5D-609A-490B-89FA-CC00C187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D51-737C-449A-B023-C5E6B24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184-CFF9-4090-A4B0-768D212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C59-BF4B-4410-BC78-D7A8995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D3E-C575-49FF-BF7A-47EBDCA0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onge%20Bob%20and%20Friends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6858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380880"/>
            <a:ext cx="8915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onge Bob Physic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ge Bob Wants to Go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vectors on a piece of graph paper you will plot out Sponge Bobs harrowing path to his pineapple under the se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caling your graph so that the x-axis is the longer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xis must be 3 lines in from the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ob" descr=""/>
          <p:cNvPicPr/>
          <p:nvPr/>
        </p:nvPicPr>
        <p:blipFill>
          <a:blip r:embed="rId1"/>
          <a:stretch/>
        </p:blipFill>
        <p:spPr>
          <a:xfrm>
            <a:off x="5486400" y="4513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enture Begi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your ruler and protractor, plot Bobs cou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ving from (0,0), Bob goes 2.5cm due nor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With Pat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b sees his friend Patrick, and wanting to say hi to his dear friend, he changes cou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nge Bob turns 6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the right for another 4.6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With San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Bob finishes with Patrick, he spots San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his present course, Bob makes a 6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eft turn and proceeds another 4.6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y Talks Too Mu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nge Bob can’t handle Sandy’s yapp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ain from his present course, Bob makes a 9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ight turn (east) for 4.9 c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d a Bad Day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Sponge Bob walks right into Itchy and Scratchy having a fight and must alter his course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makes a 5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rn to the right and proceeds another 9.3 cm on your graph, avoiding Itchy and Scrat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id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walking the 18.6 meters (9.3 cm on your graph), Sponge Bob meets up with his buddy Squid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n enlightening discourse, Bob turns left 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alks 2.9 cm on your graph to get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>
            <a:off x="76212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62120" y="327636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914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NEAPPLE%20UNDER%20THE%20SEA" descr=""/>
          <p:cNvPicPr/>
          <p:nvPr/>
        </p:nvPicPr>
        <p:blipFill>
          <a:blip r:embed="rId1"/>
          <a:stretch/>
        </p:blipFill>
        <p:spPr>
          <a:xfrm>
            <a:off x="7659720" y="2133720"/>
            <a:ext cx="1211400" cy="1622160"/>
          </a:xfrm>
          <a:prstGeom prst="rect">
            <a:avLst/>
          </a:prstGeom>
          <a:ln w="0">
            <a:noFill/>
          </a:ln>
        </p:spPr>
      </p:pic>
      <p:pic>
        <p:nvPicPr>
          <p:cNvPr id="63" name="Sponge%20Bob" descr=""/>
          <p:cNvPicPr/>
          <p:nvPr/>
        </p:nvPicPr>
        <p:blipFill>
          <a:blip r:embed="rId2"/>
          <a:stretch/>
        </p:blipFill>
        <p:spPr>
          <a:xfrm>
            <a:off x="457200" y="5638680"/>
            <a:ext cx="71280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9680" y="990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251460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086600" y="373356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atric" descr=""/>
          <p:cNvPicPr/>
          <p:nvPr/>
        </p:nvPicPr>
        <p:blipFill>
          <a:blip r:embed="rId3"/>
          <a:stretch/>
        </p:blipFill>
        <p:spPr>
          <a:xfrm>
            <a:off x="2438280" y="2819520"/>
            <a:ext cx="665280" cy="1218960"/>
          </a:xfrm>
          <a:prstGeom prst="rect">
            <a:avLst/>
          </a:prstGeom>
          <a:ln w="0">
            <a:noFill/>
          </a:ln>
        </p:spPr>
      </p:pic>
      <p:pic>
        <p:nvPicPr>
          <p:cNvPr id="68" name="Sandy" descr=""/>
          <p:cNvPicPr/>
          <p:nvPr/>
        </p:nvPicPr>
        <p:blipFill>
          <a:blip r:embed="rId4"/>
          <a:stretch/>
        </p:blipFill>
        <p:spPr>
          <a:xfrm>
            <a:off x="1295280" y="457200"/>
            <a:ext cx="64476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ichy-scratchy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70" name="Squidword" descr=""/>
          <p:cNvPicPr/>
          <p:nvPr/>
        </p:nvPicPr>
        <p:blipFill>
          <a:blip r:embed="rId6"/>
          <a:stretch/>
        </p:blipFill>
        <p:spPr>
          <a:xfrm>
            <a:off x="6864480" y="5029200"/>
            <a:ext cx="460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8:49:14Z</dcterms:created>
  <dc:creator>James Keelty</dc:creator>
  <dc:description/>
  <dc:language>en-US</dc:language>
  <cp:lastModifiedBy>mfrancesco</cp:lastModifiedBy>
  <dcterms:modified xsi:type="dcterms:W3CDTF">2005-09-14T12:23:56Z</dcterms:modified>
  <cp:revision>5</cp:revision>
  <dc:subject/>
  <dc:title>PowerPoint Presentation</dc:title>
</cp:coreProperties>
</file>